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E849-4A71-42AB-94F6-B0F0AA720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2ECC-08AB-44FC-99A1-17FA67812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1E6-D89C-4BEC-80D5-D59A833B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0C9-9373-418C-AED2-5185C2B3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4982-8084-42D7-A493-BF97D9DD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F4E-9501-4CB7-B268-12D9F851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266-78E6-4800-A067-3B70B7AF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21B-C649-4565-A7F4-180C0947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B28-7077-43CA-869E-1785EBC0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8D5-5E82-49F4-A587-57ED41B5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12B0-0B6B-4617-A8AD-844E3DDE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4CF-4FDC-4CC6-8011-125AC616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842F-320C-47FF-A4AE-1DDBFC48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C18E-F267-4048-A240-B9925D39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7D8A-C083-4A77-82FA-192BE8A13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um Sheik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91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Yo soy Anum. Tengo catorce años. Yo soy feliz y emocionada. Vivo en New York City. Tengo dos hermanas. Amo alimento y voleibo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27672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Nosotras estamos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n Burger King ahora mismo!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iero alimento!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eres un nina hambriento.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1337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8:25:59Z</dcterms:modified>
  <cp:revision>105</cp:revision>
  <dc:subject/>
  <dc:title>Profile</dc:title>
</cp:coreProperties>
</file>